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FA1-E8D0-46DA-A3A5-0C7BA4A8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372-F662-4324-AB3D-9E6798F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C8D-F730-4CF5-9A37-09EA5BB2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928-AC7A-4D9A-8B33-AA526BBB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FCB-FCE1-4C7D-96EE-BDA6E930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E60-58D7-41BB-835E-23A5D08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9BC-0AA5-4A8B-AE5B-5BDE35C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93F-ED88-4BBD-B6B5-0BEF29C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550-B6A2-4769-A479-BEE8A348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80B-726A-4C44-873F-5BCD0FA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6770-5440-4392-9482-4FE6A20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67B-F1FA-460B-83F9-8B0ABA6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EA82-67D1-4D4D-BBDE-CFD7F39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161D-E682-4E28-B3FE-25CD3F7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64F-A3B9-416F-BD3F-7FE00139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572-CAA4-4429-81CD-D47B3222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0CC-26D7-479F-9C68-0B6ABF4F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7C6-D689-4A80-97B8-A3C54178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9C8-BA90-4BF0-9388-EA71CA01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3B1-692E-403A-8C6C-4675ABA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19B-8DEE-45B0-8B06-69B90F1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E4F-B9D3-41F8-8BFF-33E68BC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3F4-720A-45CC-BC01-FE53373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306-ACBE-418C-B719-E75DBF8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8804-D594-48CE-84FC-C256C02874E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C626-DAF7-4E8D-8E2A-B5E2F5D625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ying Atmosphe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ique used to capture and analyze light from an astronomical body i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ers search for various atomic “signatures” by measuring how much light there is at each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5621400" cy="2590920"/>
          </a:xfrm>
          <a:prstGeom prst="rect">
            <a:avLst/>
          </a:prstGeom>
          <a:ln w="9360">
            <a:solidFill>
              <a:srgbClr val="ce15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819520" y="4343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’s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spect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nbroken ban of colors, which shows that its source is emitting light of all visible wavelength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solids (filament in a light bu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liquids (molten i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compressed gas in center of star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153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le Properties of Ligh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 of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can absorb or emit photons at specific wave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tell what element an atom is by what light it absorbs or e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419720" cy="2783160"/>
          </a:xfrm>
          <a:prstGeom prst="rect">
            <a:avLst/>
          </a:prstGeom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sorption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n atom absorbs a photon the atom gains the energy and one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lectrons may jump to a higher energy leve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moves that wavelength from th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72744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98000" y="-77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6201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ission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66720" y="10666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electron of an excited atom falls to a lower energy level, the atom emit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lectron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excess energy as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reates a spectrum with a few bright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144600" cy="33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533520" y="5105520"/>
          <a:ext cx="8153280" cy="147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105520"/>
                    <a:ext cx="815328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ation of Spectra Summ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of elements move from lower to higher energy levels when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of atoms or photons of light can do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lement has its own unique set of energ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bsorb and emit a unique set of wavelengths o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Spectra Summ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66720" y="144756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unbroken ban of col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iss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Every element as unique emission spectrum and can be used to identify components of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formed when a continues spectrum of light passes through a cool gas and the cool gas absorbs the light 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295280"/>
          <a:ext cx="381024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810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828440"/>
            <a:ext cx="373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6520" y="1828440"/>
            <a:ext cx="373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61800"/>
          <a:ext cx="8153640" cy="626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61800"/>
                    <a:ext cx="815364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stronomers S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83822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8:29:30Z</dcterms:created>
  <dc:creator>soe</dc:creator>
  <dc:description/>
  <dc:language>en-US</dc:language>
  <cp:lastModifiedBy>soe</cp:lastModifiedBy>
  <dcterms:modified xsi:type="dcterms:W3CDTF">2009-05-31T18:32:06Z</dcterms:modified>
  <cp:revision>1</cp:revision>
  <dc:subject/>
  <dc:title>Identifying Atmosphere</dc:title>
</cp:coreProperties>
</file>